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36573B6-BF61-4417-91D0-410652C6CA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HK" sz="12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The quotation suggests that we change behavior because we are not content with existing behavi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11DC9-ADA6-495D-AC42-C11F64B1E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324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CD980-F249-4A81-9FCA-C080700C5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04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E3BBB-B2DD-4F99-B560-35BCE6199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572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00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572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00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2F126-3463-4B22-8C71-6D8CBAAF8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29062-3189-4352-B773-56273BC7B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CFB94-E2EA-4141-9792-A46134D68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A4EC2-55C4-4A51-8A0E-D4ADDBB60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7F3EC-5291-4DE1-8B7B-B73CF151C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21F64-4FC1-422E-9E32-252D86CDA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609480" y="12600"/>
            <a:ext cx="77709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E2CED-4855-49F2-8573-43CCE7150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ED575-AD1F-4CBD-93AE-D8992CC25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4E545-E808-4BC2-A740-85473F9A1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82004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5C637-7C6B-4148-9D6C-C8C3F2B2D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B3845-3C55-4701-9E40-09C96F20B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838080" y="405324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9F2BB-DC5F-464E-A27B-5508C743F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82004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96DB9-3E22-4037-BC88-5A0B9C1D3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46572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300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83808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46572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300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819D9-609D-455D-8898-41DA6D979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50346-3675-448B-AAA1-5D526B899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6A3E3-D17E-4462-B622-F43A2AB60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51D09-8961-4FCE-BC4A-03FAEF0DA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12600"/>
            <a:ext cx="77709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BD37C-15B9-4FF4-8243-22DC30E83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DC788-EED7-4B6D-BBF6-AF5F80322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04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FADD9-3ED7-4980-A20E-4B27F8039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8FC81-4BE4-4CF1-A0D1-F6997A715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2240"/>
                <a:chOff x="0" y="304920"/>
                <a:chExt cx="9144000" cy="64022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5960" cy="6858000"/>
                <a:chOff x="304920" y="0"/>
                <a:chExt cx="85359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180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2560" y="1415880"/>
              <a:ext cx="1787400" cy="2324160"/>
              <a:chOff x="412560" y="1415880"/>
              <a:chExt cx="178740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2560" y="1512720"/>
                <a:ext cx="17874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040" y="1419120"/>
                <a:ext cx="144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3680" cy="1936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476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3680" indent="-2811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6ECF7B3-5A55-4283-B43D-61970D53C848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180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3240" y="887400"/>
              <a:ext cx="6657840" cy="2851200"/>
              <a:chOff x="3240" y="887400"/>
              <a:chExt cx="665784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180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3240" y="3052440"/>
                <a:ext cx="5100480" cy="468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8040" y="1487160"/>
                <a:ext cx="6053040" cy="468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8600" y="1366200"/>
                <a:ext cx="247680" cy="249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144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3880" y="5312520"/>
                <a:ext cx="247680" cy="249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360" y="1460520"/>
            <a:ext cx="77706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740E6C-7E4C-43FB-B022-AF827BA73F6A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09480" y="12240"/>
            <a:ext cx="777240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Dreyfus Model of Skill Acquisitio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1640" y="4952520"/>
            <a:ext cx="38862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lnSpc>
                <a:spcPct val="90000"/>
              </a:lnSpc>
              <a:spcBef>
                <a:spcPts val="451"/>
              </a:spcBef>
              <a:buSzPct val="201575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Craig McClure, MD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7680" indent="-337680">
              <a:lnSpc>
                <a:spcPct val="90000"/>
              </a:lnSpc>
              <a:spcBef>
                <a:spcPts val="451"/>
              </a:spcBef>
              <a:buSzPct val="201575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EOSG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7680" indent="-337680">
              <a:lnSpc>
                <a:spcPct val="90000"/>
              </a:lnSpc>
              <a:spcBef>
                <a:spcPts val="451"/>
              </a:spcBef>
              <a:buSzPct val="201575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University of Arizona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7680" indent="-337680">
              <a:lnSpc>
                <a:spcPct val="90000"/>
              </a:lnSpc>
              <a:spcBef>
                <a:spcPts val="451"/>
              </a:spcBef>
              <a:buSzPct val="201575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March 2005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ompetenc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2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umbers of rules becomes excessiv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Learn organizing principles or “perspectives”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erspectives permit assorting information by relevanc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e experience of responsibility arises from active decision-making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  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competent physician realizes the multitude of factors influencing the likelihood that a single symptom represents ischemia and has a decision tree to allocate probabilities balancing a number of factors in deciding when to order an EKG or other diagnostic modalities and begin treatment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roficiency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2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Intuitive diagnosi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pproach to problem molded by perspective arising from multiple real world experienc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SzPct val="113071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Holistic similarity recognition”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SzPct val="113071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earner uses intuition to realize “what” is happening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SzPct val="113071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onscious decision-making and rules used to formulate pla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proficient physician realizes “this is an infarction” and then applies rules to decide about thrombolysis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Times New Roman"/>
              </a:rPr>
              <a:t>Expertis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Don’t make decision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Don’t solve problem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Do what work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No decomposition of situation into discrete element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Pattern recognition extends to plan as well as diagnosi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“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is is an infarction and we should implement the following diagnostic and therapeutic interventions.”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Times New Roman"/>
              </a:rPr>
              <a:t>When Expertise Fail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expert uses rules and explicit decision-making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Times New Roman"/>
              </a:rPr>
              <a:t>Novic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Novice: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Arial"/>
              </a:rPr>
              <a:t>follows rules and does not feel responsible for outcomes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Arial"/>
              </a:rPr>
              <a:t>Advanced Beginner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Arial"/>
              </a:rPr>
              <a:t>recognizes new situations in which the rules may be applied. Still does not feel responsible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Arial"/>
              </a:rPr>
              <a:t> </a:t>
            </a: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Times New Roman"/>
              </a:rPr>
              <a:t>Competen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Follows rules, applies an organizing “perspective” to determine what elements of the problem are relevant and feels accountable because of decision-making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Arial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“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o become competent you must feel bad”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Hubert Dreyfus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Arial"/>
              </a:rPr>
              <a:t>Proficiency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proficient learner uses pattern recognition arising from extensive experience to identify the problem (“what” is happening”) and rules and analysis in formulating the “how” of the solution.  A sense of responsibility follows the decision-making.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Arial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Arial"/>
              </a:rPr>
              <a:t>Expertis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immediately sees “what” is happening and “how” to approach the situation.  Pattern recognition extends to management plan as well as diagnosis. 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480" y="12240"/>
            <a:ext cx="777240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Arial"/>
              </a:rPr>
              <a:t>Dreyfus Model of Skill Acquisitio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utility of the concept of skill acquisition lies in helping the teacher understand how to assist the learner in advancing to the next level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ctivities Studied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Airplane pilots,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Chess players,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Automobile drivers,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Adult learners of a second languag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Five Stag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ovic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Advanced Beginne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ompeten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roficien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Exper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480" y="12240"/>
            <a:ext cx="777240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Best Opportunity to Observe Stag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Unstructured problem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umber of potentially relevant facts enormou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Variety of solutions extensiv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Novic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The novice follows rul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Specific rules for specific circumstanc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No modifier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Context free”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Don’t feel responsible for other than following the rul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  </a:t>
            </a:r>
            <a:r>
              <a:rPr b="0" lang="en-HK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early medical student is taught to obtain an EKG for chest pain, without other modifiers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dvanced Beginner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ew “situational” elements are identified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Rules begin to be applied to related condition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Decisions still are made by rule applicatio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Does not experience personal responsibility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HK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more experienced medical student finds that dyspnea also might be associated with cardiac ischemia and orders an EKG for that situation as well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raig McClure</dc:creator>
  <dc:description/>
  <dc:language>en-US</dc:language>
  <cp:lastModifiedBy>Craig McClure</cp:lastModifiedBy>
  <cp:revision>0</cp:revision>
  <dc:subject/>
  <dc:title>Dreyfus Model of Skills Acquisition</dc:title>
</cp:coreProperties>
</file>